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180A-A124-4ED9-B691-5D9C18198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D84-A33A-4C35-988B-6A477A6D3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93B-E463-4652-9F45-E74B7D37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127-5898-42DF-BD8C-3D0204C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D8D-891C-45F9-A7C6-4F45B17F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B6E-02EB-4426-8C6C-D0FEB326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931-04C3-4375-8C99-BEC095E4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24D-9261-48BC-A795-C37A451E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54E-5797-4ADF-8B0E-E7F3F6E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114-0CE0-4358-A5C4-220340D0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EC6-B3B2-4A9D-A4CE-0774600A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5CF-5649-4BB2-9F9E-45626E1C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7E9-049B-44D4-B17F-D9E41E5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AA4-CB03-4992-A8A7-076FD11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0B4-6E36-430D-B112-2E1300B7F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 Web for IQ 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. Leptouk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th Science Information Partners (ESIP) Federation IQ clus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7800" indent="-307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ring together people from various disciplines to assess aspects of quality of remote sensing da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and share bes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framework for consistent capture, harmonization and presentation of data quality for the purposes of climate change studies, earth science and applic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eptoukh, Pecora'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3562-1037-4755-9EA2-42AC8BAB3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6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hy so difficul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Qualit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erceived differentl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y data providers and data recipi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oo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many different qualitative and quantitative asp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of quality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 comprehensiv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framework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remote sensing Level 2 and higher data qual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 common terminolog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r even wors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, the same term used for different thing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 preferred methodolog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 solving many data quality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ach science team handled quality different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Data quality aspect had lower prior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than building an instrument, launching a rocket, collecting/processing data, and publishing a paper using these dat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eptoukh, Pecora'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9120-70BA-43AE-80F9-FDB78D64C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6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quality and why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many data to choose from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s need to be able to decide which data product to choose for their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ould you switch from Tylenol to aspirin or ibuprof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49612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895480" y="5410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and or generic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eneral Quality Indicators (Q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se are objective (computable) aspects of data and prov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Common across many discipl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me of them might be called ‘figures of merit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sers of data, depending on usage, assert quality of data from these Q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ame QI might be consider “good” for one usage and “bad” for another – “somebody’s trash is another’s treasur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eptoukh, Pecora'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2115-8235-4299-A5C8-2A244BE96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6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Quality Ontology +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lasses, dimensions… indic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 vocabulary (ISO docs do hel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te and establish rela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rules where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into semantic web and integrate into re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ate as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orts across various disciplines are not coordinated … besides the ESIP ef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a deposit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ing the matter specialists, the real scientists, is a real challenge. The mentality needed for working on developing data quality framework is very different from a “regular” research ment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4:10:32Z</dcterms:created>
  <dc:creator>Leptoukh</dc:creator>
  <dc:description/>
  <dc:language>en-US</dc:language>
  <cp:lastModifiedBy>Leptoukh</cp:lastModifiedBy>
  <dcterms:modified xsi:type="dcterms:W3CDTF">2011-12-03T03:44:56Z</dcterms:modified>
  <cp:revision>4</cp:revision>
  <dc:subject/>
  <dc:title>Semantic Web for IQ</dc:title>
</cp:coreProperties>
</file>